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4D5-DC3E-459C-9626-0417452A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38E-C015-49CB-954C-A8DC2604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1DC-5DCB-4987-88AC-4567CF20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875-CFDD-42F6-B546-DEA090FE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EDD-7893-48EF-B526-B93B9ADB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103-066D-495B-A9B0-DFB0925F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D8B-F406-425F-A4BF-CE89944F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1B0-C705-4BFE-9B2B-F2F74F0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C05-05B3-4846-8611-DC0C06F5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199-B081-4E3E-A787-30C04D1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BF2-96F7-464A-8EE8-DDADBE6D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1B2-A994-4FA7-820E-1AFDAE70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7723-325C-4F15-971E-8D9E29DAB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" y="355320"/>
            <a:ext cx="90554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Barack Obam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99840" y="1912680"/>
            <a:ext cx="43974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amard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70240" y="2698920"/>
            <a:ext cx="367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4280" y="1912680"/>
            <a:ext cx="43992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don’t take a dime of their money, and when I am president, they won’t find a job in my White Hous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4120" y="1692360"/>
            <a:ext cx="28573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13840" y="1828800"/>
            <a:ext cx="43974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don’t oppose all wars. What I am oppose to is a dumb war. What I am opposed to is a rash wa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8440" y="1353960"/>
            <a:ext cx="401292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44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found this national debate, doubled, wrapped in a big bow waiting for me as I step into the Oval Offic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78040" y="1608120"/>
            <a:ext cx="312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644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cannot swallow whole the view of Lincoln as the Great Emancipato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8120" y="1004760"/>
            <a:ext cx="33148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428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think when you spread the wealth around it’s good for everybod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94280" y="1862280"/>
            <a:ext cx="34732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644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ericans… still believe in a American where anything’s possible they just don’t think their leaders d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62280" y="1353960"/>
            <a:ext cx="34304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